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3.png" ContentType="image/png"/>
  <Override PartName="/ppt/media/image27.jpeg" ContentType="image/jpeg"/>
  <Override PartName="/ppt/media/image6.jpeg" ContentType="image/jpeg"/>
  <Override PartName="/ppt/media/image30.wmf" ContentType="image/x-wmf"/>
  <Override PartName="/ppt/media/image7.png" ContentType="image/png"/>
  <Override PartName="/ppt/media/image28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d62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AA7EF-4394-4984-B207-96B79BF10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860CF-5B75-4414-96C6-0367DAF8F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B1463-AAFE-42C4-A5F6-31E9A8931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68280" y="725400"/>
            <a:ext cx="4783320" cy="358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074D4-5DF0-45A7-9956-E7ED5ABC5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68280" y="725400"/>
            <a:ext cx="4783320" cy="358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7F33-DEB1-4099-83A4-1F6CDF633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186C-2BE1-4AA2-8F1E-BEBB5A47C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593A-6A4B-40A5-B4D1-6F97D8120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880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972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880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4582-50CB-453E-9DA4-E42142D81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17F7-4484-4F3C-B2AF-B6F125B2A7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AAFF-40DA-4FBB-849C-9B700E786D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C756-4FAA-42D5-A8A3-386B3C9D8B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53CF-8CF7-4604-9700-B6EC15A3F9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9357-AE96-4FFD-B1D3-05A7CD4E0F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0440" y="269640"/>
            <a:ext cx="776592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EF28-E41B-45A1-8AF7-1741ACBD36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4746-95AF-4DE7-BF84-0288B04310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812C-8294-4026-AE93-413B12C61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6BFE-7CEE-4C99-9393-23FD1AB3AA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BF6B-0BAA-4F93-A5EA-535DA1A1C5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9B39-BA3C-4025-A10A-B6F30AAE4A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7006-71C7-42D5-89F2-CBFC8491B8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880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2972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880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2792-738A-40D8-B6AF-E2A9335B2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05B5-EE40-4A37-8F8B-E64C44270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8B32-E575-4F4A-B112-0AACA5C77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659F-A3E6-4650-9FC0-860F328CD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0440" y="269640"/>
            <a:ext cx="776592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E282-3BD7-480C-8C48-174BF60A9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1F0E-8240-4B7A-8B83-153453C75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98F3-5BD7-49C1-B120-AA16CB58B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FE6A-AFC0-4AC4-971C-AA88E30D9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6600"/>
              </a:buClr>
              <a:buSzPct val="10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e51837"/>
              </a:buClr>
              <a:buSzPct val="9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562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562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" name="Line 7"/>
          <p:cNvSpPr/>
          <p:nvPr/>
        </p:nvSpPr>
        <p:spPr>
          <a:xfrm>
            <a:off x="441360" y="968400"/>
            <a:ext cx="8307360" cy="0"/>
          </a:xfrm>
          <a:prstGeom prst="line">
            <a:avLst/>
          </a:prstGeom>
          <a:ln w="25560">
            <a:solidFill>
              <a:srgbClr val="002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287280" y="6154560"/>
            <a:ext cx="8553600" cy="0"/>
          </a:xfrm>
          <a:prstGeom prst="line">
            <a:avLst/>
          </a:prstGeom>
          <a:ln w="9360">
            <a:solidFill>
              <a:srgbClr val="0035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362440" y="6324120"/>
            <a:ext cx="554040" cy="3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6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552F-DD4D-4730-A27E-50404E6B8582}" type="slidenum">
              <a:rPr b="0" lang="en-US" sz="1600" spc="-1" strike="noStrike">
                <a:solidFill>
                  <a:srgbClr val="002d62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127160" y="624204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0680" y="6188040"/>
            <a:ext cx="779400" cy="614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3880" y="6227640"/>
            <a:ext cx="54936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440" y="1528920"/>
            <a:ext cx="234468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ldNum" idx="2"/>
          </p:nvPr>
        </p:nvSpPr>
        <p:spPr>
          <a:xfrm>
            <a:off x="8362440" y="6324120"/>
            <a:ext cx="554040" cy="3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6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CE60-1394-4A87-BB3B-95D9ABB170EB}" type="slidenum">
              <a:rPr b="0" lang="en-US" sz="1600" spc="-1" strike="noStrike">
                <a:solidFill>
                  <a:srgbClr val="002d62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52480" y="23976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138480" y="318960"/>
            <a:ext cx="25131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6010200" y="271440"/>
            <a:ext cx="2530440" cy="1785960"/>
            <a:chOff x="6010200" y="271440"/>
            <a:chExt cx="2530440" cy="1785960"/>
          </a:xfrm>
        </p:grpSpPr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6010200" y="1596960"/>
              <a:ext cx="253044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6550200" y="271440"/>
              <a:ext cx="1406520" cy="140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511200" y="2219400"/>
            <a:ext cx="78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3845"/>
                </a:solidFill>
                <a:latin typeface="Century Gothic"/>
              </a:rPr>
              <a:t>Notre Dame extended Research Community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5440" y="2916000"/>
            <a:ext cx="8531280" cy="12600"/>
          </a:xfrm>
          <a:prstGeom prst="line">
            <a:avLst/>
          </a:prstGeom>
          <a:ln w="25560">
            <a:solidFill>
              <a:srgbClr val="013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franmonks.com/families/hello/436447/1024/Anna%20031-2005.05.09-19.03.21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nanotech-now.com/.../antonio-siber.htm" TargetMode="External"/><Relationship Id="rId3" Type="http://schemas.openxmlformats.org/officeDocument/2006/relationships/hyperlink" Target="http://www.nanotech-now.com/.../antonio-siber.htm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ieap.uni-kiel.de/" TargetMode="External"/><Relationship Id="rId3" Type="http://schemas.openxmlformats.org/officeDocument/2006/relationships/hyperlink" Target="http://www.renault.com/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nano.tm.agilent.com/" TargetMode="External"/><Relationship Id="rId3" Type="http://schemas.openxmlformats.org/officeDocument/2006/relationships/hyperlink" Target="http://nano.tm.agilent.com/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hyperlink" Target="http://www.almaden.ibm.com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uvabcs.com/uvlight-typical.php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480" y="3216240"/>
            <a:ext cx="840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d62"/>
                </a:solidFill>
                <a:latin typeface="Century Gothic"/>
              </a:rPr>
              <a:t>From the Human Eye Down to Microscopes at the Nano-Scale</a:t>
            </a:r>
            <a:endParaRPr b="0" lang="en-US" sz="40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300480" y="4529160"/>
            <a:ext cx="546264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Michael Crocker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Valerie Goss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Pat Mooney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Rebecca Quardokus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8F7E-7254-4881-99BF-8D9C6FB9FC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35080" y="250920"/>
            <a:ext cx="675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Electron Beam Colum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00280" y="5850000"/>
            <a:ext cx="632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562"/>
                </a:solidFill>
                <a:latin typeface="Century Gothic"/>
              </a:rPr>
              <a:t>http://bioweb.usu.edu/emlab/TEM-SEM%20Teaching/How%20SEM%20works.html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5440" y="950760"/>
            <a:ext cx="3413160" cy="5129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03480" y="1179360"/>
            <a:ext cx="58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Beam created from heated filamen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43160" y="1805040"/>
            <a:ext cx="5580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Beam travels through a vacuu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08240" y="2508120"/>
            <a:ext cx="5580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Electro-magnetic fields act as lens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51360" y="4249800"/>
            <a:ext cx="43639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Scattered and “secondary” electrons are detecte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65480" y="3200400"/>
            <a:ext cx="43642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Electron beam hits the sample in a precise loc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27320" y="5319720"/>
            <a:ext cx="4364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Beam scans back and forth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E492-F59E-483D-BC55-4C7A811589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95440" y="250920"/>
            <a:ext cx="789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Electrons Hit Surface and Detection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00280" y="5850000"/>
            <a:ext cx="59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Century Gothic"/>
              </a:rPr>
              <a:t>http://www4.nau.edu/microanalysis/Microprobe-SEM/Signals.html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746520" y="2701800"/>
            <a:ext cx="5346720" cy="2957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7240" y="1211400"/>
            <a:ext cx="3713040" cy="4676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928960" y="1179360"/>
            <a:ext cx="6215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Primary electrons come from the bea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55920" y="1844640"/>
            <a:ext cx="40737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Some scatter back, </a:t>
            </a:r>
            <a:br>
              <a:rPr sz="2400"/>
            </a:b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others dislodge electron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22D8-F15A-4043-AC1D-06712ABDB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95440" y="250920"/>
            <a:ext cx="7891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Example Imag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74960" y="6377040"/>
            <a:ext cx="50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Century Gothic"/>
              </a:rPr>
              <a:t>http://gsc.nrcan.gc.ca/labs/ebeam/sem_gallery_e.php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74840" y="1058760"/>
            <a:ext cx="2647800" cy="1989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483080" y="1020600"/>
            <a:ext cx="4148280" cy="3116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1880" y="3098880"/>
            <a:ext cx="388476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273720" y="4213080"/>
            <a:ext cx="2421000" cy="183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A492-4249-4AA5-B9FB-2078D48F11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Atomic Force Microscop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Valerie Goss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4894-C381-4882-A8E3-25B73A6F86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0" t="18510" r="0" b="22358"/>
          <a:stretch/>
        </p:blipFill>
        <p:spPr>
          <a:xfrm>
            <a:off x="4570560" y="3251160"/>
            <a:ext cx="3941640" cy="2330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2"/>
          </p:cNvPr>
          <p:cNvPicPr/>
          <p:nvPr/>
        </p:nvPicPr>
        <p:blipFill>
          <a:blip r:embed="rId3"/>
          <a:srcRect l="4914" t="7599" r="5943" b="8312"/>
          <a:stretch/>
        </p:blipFill>
        <p:spPr>
          <a:xfrm>
            <a:off x="393840" y="2982960"/>
            <a:ext cx="4378320" cy="2952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26880" y="176040"/>
            <a:ext cx="848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What is the AFM?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199040" y="175248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094360" y="1157400"/>
            <a:ext cx="3841560" cy="981000"/>
          </a:xfrm>
          <a:prstGeom prst="wedgeRoundRectCallout">
            <a:avLst>
              <a:gd name="adj1" fmla="val -52810"/>
              <a:gd name="adj2" fmla="val 75888"/>
              <a:gd name="adj3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02080" y="1360440"/>
            <a:ext cx="3414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3845"/>
                </a:solidFill>
                <a:latin typeface="Century Gothic"/>
              </a:rPr>
              <a:t>We can sense with our hands by touching.</a:t>
            </a: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080" y="1333440"/>
            <a:ext cx="4192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An analogue!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527D-F886-48F1-A64C-7165977AA6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495440" y="4191120"/>
            <a:ext cx="1781280" cy="1780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105520" y="4191120"/>
            <a:ext cx="1857240" cy="1857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93560" y="250920"/>
            <a:ext cx="816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AFM cantilever and AFM tip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07400" y="57387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www.veeco.com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EE22-B592-4FE0-87D7-4EA0DF35C9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7628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The powerful, versatile AFM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570120" y="1679400"/>
            <a:ext cx="5380200" cy="4035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606920" y="4730760"/>
            <a:ext cx="16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~30 um scan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38320" y="5730120"/>
            <a:ext cx="6205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Century Gothic"/>
                <a:hlinkClick r:id="rId2"/>
              </a:rPr>
              <a:t>www.nanotech-now.com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entury Gothic"/>
                <a:hlinkClick r:id="rId3"/>
              </a:rPr>
              <a:t>/.../antonio-siber.htm</a:t>
            </a:r>
            <a:r>
              <a:rPr b="0" lang="en-US" sz="1600" spc="-1" strike="noStrike">
                <a:solidFill>
                  <a:srgbClr val="003562"/>
                </a:solidFill>
                <a:latin typeface="Century Gothic"/>
              </a:rPr>
              <a:t> Aug 27, 2009 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7040" y="1492200"/>
            <a:ext cx="272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62"/>
                </a:solidFill>
                <a:latin typeface="Century Gothic"/>
              </a:rPr>
              <a:t>      </a:t>
            </a:r>
            <a:r>
              <a:rPr b="0" i="1" lang="en-US" sz="2000" spc="-1" strike="noStrike">
                <a:solidFill>
                  <a:srgbClr val="003562"/>
                </a:solidFill>
                <a:latin typeface="Century Gothic"/>
              </a:rPr>
              <a:t>Resolutions: 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X and Y  2 -10 nm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Z            0.05 nm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63360" y="2525760"/>
            <a:ext cx="379548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562"/>
                </a:solidFill>
                <a:latin typeface="Century Gothic"/>
              </a:rPr>
              <a:t>Microstructure of solids:</a:t>
            </a:r>
            <a:r>
              <a:rPr b="0" lang="en-US" sz="2000" spc="-1" strike="noStrike">
                <a:solidFill>
                  <a:srgbClr val="003562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CD, glass beads, circuits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562"/>
                </a:solidFill>
                <a:latin typeface="Century Gothic"/>
              </a:rPr>
              <a:t>Biological samples:</a:t>
            </a: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skin cross section, viruses, bacteria, blood, DNA and RNA</a:t>
            </a:r>
            <a:r>
              <a:rPr b="0" lang="en-US" sz="1800" spc="-1" strike="noStrike">
                <a:solidFill>
                  <a:srgbClr val="003562"/>
                </a:solidFill>
                <a:latin typeface="Arial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554280" y="4915080"/>
            <a:ext cx="960480" cy="0"/>
          </a:xfrm>
          <a:prstGeom prst="line">
            <a:avLst/>
          </a:prstGeom>
          <a:ln w="93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14960" y="4911840"/>
            <a:ext cx="2819520" cy="0"/>
          </a:xfrm>
          <a:prstGeom prst="line">
            <a:avLst/>
          </a:prstGeom>
          <a:ln w="93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BB99-055A-4F40-BF42-9537760A94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3040" y="2130120"/>
            <a:ext cx="822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Scanning Tunneling Microscop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Rebecca Quardokus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8318-7F11-4F0B-B059-D7D4290232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Scanning Tunneling Microscopy (STM)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3084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Electrons tunnel!</a:t>
            </a: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With a higher probability than cars </a:t>
            </a: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12840" y="1123920"/>
            <a:ext cx="393084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STM measures the current created by tunneling electrons</a:t>
            </a: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118120" y="2676600"/>
            <a:ext cx="3103560" cy="2606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637080" y="6097680"/>
            <a:ext cx="51735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562"/>
                </a:solidFill>
                <a:latin typeface="Century Gothic"/>
              </a:rPr>
              <a:t>Images courtesy of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ff"/>
                </a:solidFill>
                <a:uFillTx/>
                <a:latin typeface="Century Gothic"/>
                <a:hlinkClick r:id="rId2"/>
              </a:rPr>
              <a:t>http://www.ieap.uni-kiel.de</a:t>
            </a:r>
            <a:r>
              <a:rPr b="0" lang="en-US" sz="1200" spc="-1" strike="noStrike" u="sng">
                <a:solidFill>
                  <a:srgbClr val="003562"/>
                </a:solidFill>
                <a:uFillTx/>
                <a:latin typeface="Century Gothic"/>
              </a:rPr>
              <a:t> and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entury Gothic"/>
                <a:hlinkClick r:id="rId3"/>
              </a:rPr>
              <a:t>www.renault.com</a:t>
            </a:r>
            <a:r>
              <a:rPr b="0" lang="en-US" sz="1200" spc="-1" strike="noStrike" u="sng">
                <a:solidFill>
                  <a:srgbClr val="003562"/>
                </a:solidFill>
                <a:uFillTx/>
                <a:latin typeface="Century Gothic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6600" y="4187880"/>
            <a:ext cx="393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905040" y="2070000"/>
            <a:ext cx="3367080" cy="2246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1B4F-BEA7-478A-AD54-286C5FFF75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Scanning Tunneling Microscopy (STM)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09680" y="2060640"/>
            <a:ext cx="4195800" cy="2577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637080" y="6097680"/>
            <a:ext cx="46591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562"/>
                </a:solidFill>
                <a:latin typeface="Century Gothic"/>
              </a:rPr>
              <a:t>Image courtesy of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ff"/>
                </a:solidFill>
                <a:uFillTx/>
                <a:latin typeface="Century Gothic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entury Gothic"/>
                <a:hlinkClick r:id="rId3"/>
              </a:rPr>
              <a:t>nano.tm.agilent.com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923000" y="1319040"/>
            <a:ext cx="2130120" cy="1371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6827760" y="1487520"/>
            <a:ext cx="101304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212440" y="963720"/>
            <a:ext cx="30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C60 “Bucky Balls”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3" name="" descr="C60 adsorbed on Au(111)"/>
          <p:cNvPicPr/>
          <p:nvPr/>
        </p:nvPicPr>
        <p:blipFill>
          <a:blip r:embed="rId6"/>
          <a:stretch/>
        </p:blipFill>
        <p:spPr>
          <a:xfrm>
            <a:off x="5424480" y="2644920"/>
            <a:ext cx="24573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354560" y="5197320"/>
            <a:ext cx="467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Each C60 diameter is ~ 10Å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1 Å = 1x 10</a:t>
            </a:r>
            <a:r>
              <a:rPr b="0" lang="en-US" sz="2800" spc="-1" strike="noStrike" baseline="30000">
                <a:solidFill>
                  <a:srgbClr val="003562"/>
                </a:solidFill>
                <a:latin typeface="Century Gothic"/>
              </a:rPr>
              <a:t>-10</a:t>
            </a: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 m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BF54-61D7-43A9-9FF2-5DBC68A5B4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1000" y="-360"/>
            <a:ext cx="8310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Outlin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0160" y="1112400"/>
            <a:ext cx="8459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Discussion of Optics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History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Ranges of Visual Resolution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canning Electron Microscopy (SEM) 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Fundamentals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Operation Scheme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Atomic Force Microscopy (AFM)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canning Tunneling Microscopy (STM)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68E7-3DCE-4665-8D0F-7914A7B604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Scanning Tunneling Microscopy (STM)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89080" y="1130400"/>
            <a:ext cx="5076720" cy="1747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388120" y="2557440"/>
            <a:ext cx="3485880" cy="34956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30840" y="294804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Xenon on Nick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3880" y="550080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Iron on Copper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13040" y="6121440"/>
            <a:ext cx="4260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562"/>
                </a:solidFill>
                <a:latin typeface="Century Gothic"/>
              </a:rPr>
              <a:t>Images courtesy of 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ff"/>
                </a:solidFill>
                <a:uFillTx/>
                <a:latin typeface="Century Gothic"/>
                <a:hlinkClick r:id="rId3"/>
              </a:rPr>
              <a:t>http://www.almaden.ibm.com</a:t>
            </a:r>
            <a:r>
              <a:rPr b="0" lang="en-US" sz="1200" spc="-1" strike="noStrike" u="sng">
                <a:solidFill>
                  <a:srgbClr val="003562"/>
                </a:solidFill>
                <a:uFillTx/>
                <a:latin typeface="Century Gothic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173160" y="443232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68480" y="3836880"/>
            <a:ext cx="4081320" cy="981360"/>
          </a:xfrm>
          <a:prstGeom prst="wedgeRoundRectCallout">
            <a:avLst>
              <a:gd name="adj1" fmla="val -52333"/>
              <a:gd name="adj2" fmla="val 75888"/>
              <a:gd name="adj3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85760" y="4040280"/>
            <a:ext cx="40021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3845"/>
                </a:solidFill>
                <a:latin typeface="Century Gothic"/>
              </a:rPr>
              <a:t>Individual atoms?  That’s small!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D422-DDD1-4339-A868-7D36FEE0EE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3360" y="312480"/>
            <a:ext cx="854712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I’ll show you more in the microscope laboratory!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743200" y="1768320"/>
            <a:ext cx="3657600" cy="36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FC97-24E6-43DC-A8BB-39ED2557F7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Scanning Bunny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101" name="Rectangle 5" descr=""/>
          <p:cNvPicPr/>
          <p:nvPr/>
        </p:nvPicPr>
        <p:blipFill>
          <a:blip r:embed="rId1"/>
          <a:stretch/>
        </p:blipFill>
        <p:spPr>
          <a:xfrm>
            <a:off x="3321000" y="1666800"/>
            <a:ext cx="1830600" cy="179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8560" y="3757680"/>
            <a:ext cx="79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A distant cousin of the energizer bunny who helps to explain nanoscience concepts.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55920" y="5072040"/>
            <a:ext cx="56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ELCOME PENN HIGH SCHOO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CFBD-90DC-4AC5-BDF7-5DE7620EA8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280" y="16002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45200" y="-380880"/>
            <a:ext cx="38988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2120" y="26478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767560" y="4549680"/>
            <a:ext cx="3124080" cy="2103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>
            <a:off x="2133360" y="1371600"/>
            <a:ext cx="4800600" cy="17524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040" y="1371600"/>
            <a:ext cx="5638680" cy="2590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962520"/>
            <a:ext cx="5105160" cy="16002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124080"/>
            <a:ext cx="5029200" cy="23623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14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562"/>
                </a:solidFill>
                <a:latin typeface="Arial"/>
              </a:rPr>
              <a:t>targe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6094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562"/>
                </a:solidFill>
                <a:latin typeface="Arial"/>
              </a:rPr>
              <a:t>sourc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6960" y="1004760"/>
            <a:ext cx="3429000" cy="981360"/>
          </a:xfrm>
          <a:prstGeom prst="wedgeRoundRectCallout">
            <a:avLst>
              <a:gd name="adj1" fmla="val -52777"/>
              <a:gd name="adj2" fmla="val 75888"/>
              <a:gd name="adj3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1182600"/>
            <a:ext cx="34765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3845"/>
                </a:solidFill>
                <a:latin typeface="Century Gothic"/>
              </a:rPr>
              <a:t>How do we see an object?</a:t>
            </a: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3743280" y="5072040"/>
            <a:ext cx="25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562"/>
                </a:solidFill>
                <a:latin typeface="Arial"/>
              </a:rPr>
              <a:t>detector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0320" y="568656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562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3562"/>
                </a:solidFill>
                <a:latin typeface="Arial"/>
              </a:rPr>
              <a:t>and often you’ll need a lens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3D2F-B578-4D04-A70D-CD8A794F33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3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Requirements of Vision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The light that reaches the eye must have a color between red (760nm) and blue (400nm) – or a mixture of these colors</a:t>
            </a: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3845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13845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13845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The light that reaches the eye must be sufficiently bright – usually requires a sufficiently bright source</a:t>
            </a: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120" name="" descr="ultraviolet (UV) radiation, to visible light, to infrared radiation (IR)"/>
          <p:cNvPicPr/>
          <p:nvPr/>
        </p:nvPicPr>
        <p:blipFill>
          <a:blip r:embed="rId1"/>
          <a:stretch/>
        </p:blipFill>
        <p:spPr>
          <a:xfrm>
            <a:off x="762120" y="2700360"/>
            <a:ext cx="7696080" cy="2209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29000" y="31240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Arial"/>
              </a:rPr>
              <a:t>visible ligh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466236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Arial"/>
              </a:rPr>
              <a:t>wavelength in nm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73400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62"/>
                </a:solidFill>
                <a:latin typeface="Arial"/>
              </a:rPr>
              <a:t>400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648320"/>
            <a:ext cx="83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Arial"/>
              </a:rPr>
              <a:t>760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86800" y="4705200"/>
            <a:ext cx="83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Arial"/>
              </a:rPr>
              <a:t>3000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38960" y="4729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62"/>
                </a:solidFill>
                <a:latin typeface="Arial"/>
              </a:rPr>
              <a:t>760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72428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Arial"/>
              </a:rPr>
              <a:t>290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72428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Arial"/>
              </a:rPr>
              <a:t>320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43360" y="2357280"/>
            <a:ext cx="580212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Century Gothic"/>
                <a:hlinkClick r:id="rId2"/>
              </a:rPr>
              <a:t>www.uvabcs.com/uvlight-typical.php</a:t>
            </a:r>
            <a:r>
              <a:rPr b="0" lang="en-US" sz="1600" spc="-1" strike="noStrike">
                <a:solidFill>
                  <a:srgbClr val="013845"/>
                </a:solidFill>
                <a:latin typeface="Century Gothic"/>
              </a:rPr>
              <a:t> , August 31, 2009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29240" y="3586320"/>
            <a:ext cx="104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Arial"/>
              </a:rPr>
              <a:t>infrared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7160" y="3086280"/>
            <a:ext cx="137160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Times New Roman"/>
              </a:rPr>
              <a:t>UV     UV </a:t>
            </a:r>
            <a:r>
              <a:rPr b="0" lang="en-US" sz="1400" spc="-1" strike="noStrike">
                <a:solidFill>
                  <a:srgbClr val="003562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562"/>
                </a:solidFill>
                <a:latin typeface="Times New Roman"/>
              </a:rPr>
              <a:t>UV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Times New Roman"/>
              </a:rPr>
              <a:t>C         B       A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7E09-BAE5-45B5-9D30-273E7652B9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Object and Source Matching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133" name="Rectangle 5" descr=""/>
          <p:cNvPicPr/>
          <p:nvPr/>
        </p:nvPicPr>
        <p:blipFill>
          <a:blip r:embed="rId1"/>
          <a:stretch/>
        </p:blipFill>
        <p:spPr>
          <a:xfrm>
            <a:off x="552600" y="1123920"/>
            <a:ext cx="8013600" cy="45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C8D5-3AF7-4D5D-8280-B092B42709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1000" y="-360"/>
            <a:ext cx="8310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Seeing Atomic Structur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13040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Light must be about 0.1nm in wavelength to see atomic structure: x-ray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But our eyes can’t detect x-rays - 0.1nm light - (5000 times smaller wavelength than we can see)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Option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05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Gothic"/>
              </a:rPr>
              <a:t>Use x-rays and detector (to replace the eye)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05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Gothic"/>
              </a:rPr>
              <a:t>Use particles (e.g. electrons) and detector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Electrons of the appropriate wavelength are easier to produce and direct than light – Scanning Electron Microscope (SEM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Alternate imaging techniqu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05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Gothic"/>
              </a:rPr>
              <a:t>Atomic Force Microscope (AFM)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05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Gothic"/>
              </a:rPr>
              <a:t>Scanning Tunneling Microscope (STM)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98D3-8E8F-4E00-91F5-55549EDF7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Scanning Electron Microscop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Michael Crocker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E664-DD4C-426D-A9D9-194AA55E07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60480" y="250920"/>
            <a:ext cx="4810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Basic Idea?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387680" y="1355760"/>
            <a:ext cx="4376880" cy="1814040"/>
            <a:chOff x="4387680" y="1355760"/>
            <a:chExt cx="4376880" cy="18140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4387680" y="1950840"/>
              <a:ext cx="11430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283360" y="1355760"/>
              <a:ext cx="3429000" cy="981000"/>
            </a:xfrm>
            <a:prstGeom prst="wedgeRoundRectCallout">
              <a:avLst>
                <a:gd name="adj1" fmla="val -52777"/>
                <a:gd name="adj2" fmla="val 75888"/>
                <a:gd name="adj3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88040" y="1533240"/>
              <a:ext cx="3476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3845"/>
                  </a:solidFill>
                  <a:latin typeface="Century Gothic"/>
                </a:rPr>
                <a:t>Let’s bounce something else at the surface!</a:t>
              </a:r>
              <a:endParaRPr b="1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04920" y="1300320"/>
            <a:ext cx="381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Animal sight and traditional microscopes collect deflected light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198960" y="3857760"/>
            <a:ext cx="196200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846000" y="4745160"/>
            <a:ext cx="374400" cy="307080"/>
            <a:chOff x="846000" y="4745160"/>
            <a:chExt cx="374400" cy="307080"/>
          </a:xfrm>
        </p:grpSpPr>
        <p:sp>
          <p:nvSpPr>
            <p:cNvPr id="146" name=""/>
            <p:cNvSpPr/>
            <p:nvPr/>
          </p:nvSpPr>
          <p:spPr>
            <a:xfrm>
              <a:off x="939600" y="483228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6000" y="47451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60440" y="4746600"/>
            <a:ext cx="374400" cy="307080"/>
            <a:chOff x="460440" y="4746600"/>
            <a:chExt cx="374400" cy="307080"/>
          </a:xfrm>
        </p:grpSpPr>
        <p:sp>
          <p:nvSpPr>
            <p:cNvPr id="149" name=""/>
            <p:cNvSpPr/>
            <p:nvPr/>
          </p:nvSpPr>
          <p:spPr>
            <a:xfrm>
              <a:off x="554040" y="483372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440" y="474660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54400" y="5678640"/>
            <a:ext cx="374400" cy="307080"/>
            <a:chOff x="3254400" y="5678640"/>
            <a:chExt cx="374400" cy="307080"/>
          </a:xfrm>
        </p:grpSpPr>
        <p:sp>
          <p:nvSpPr>
            <p:cNvPr id="152" name=""/>
            <p:cNvSpPr/>
            <p:nvPr/>
          </p:nvSpPr>
          <p:spPr>
            <a:xfrm>
              <a:off x="3348000" y="576576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54400" y="567864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881440" y="3463920"/>
            <a:ext cx="374400" cy="307080"/>
            <a:chOff x="2881440" y="3463920"/>
            <a:chExt cx="374400" cy="307080"/>
          </a:xfrm>
        </p:grpSpPr>
        <p:sp>
          <p:nvSpPr>
            <p:cNvPr id="155" name=""/>
            <p:cNvSpPr/>
            <p:nvPr/>
          </p:nvSpPr>
          <p:spPr>
            <a:xfrm>
              <a:off x="2975040" y="355104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1440" y="346392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481120" y="3867120"/>
            <a:ext cx="374400" cy="307080"/>
            <a:chOff x="2481120" y="3867120"/>
            <a:chExt cx="374400" cy="307080"/>
          </a:xfrm>
        </p:grpSpPr>
        <p:sp>
          <p:nvSpPr>
            <p:cNvPr id="158" name=""/>
            <p:cNvSpPr/>
            <p:nvPr/>
          </p:nvSpPr>
          <p:spPr>
            <a:xfrm>
              <a:off x="2574720" y="395424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81120" y="386712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08360" y="5484960"/>
            <a:ext cx="374400" cy="307080"/>
            <a:chOff x="2808360" y="5484960"/>
            <a:chExt cx="374400" cy="307080"/>
          </a:xfrm>
        </p:grpSpPr>
        <p:sp>
          <p:nvSpPr>
            <p:cNvPr id="161" name=""/>
            <p:cNvSpPr/>
            <p:nvPr/>
          </p:nvSpPr>
          <p:spPr>
            <a:xfrm>
              <a:off x="2901960" y="557208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08360" y="54849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751200" y="5173560"/>
            <a:ext cx="374400" cy="307080"/>
            <a:chOff x="3751200" y="5173560"/>
            <a:chExt cx="374400" cy="307080"/>
          </a:xfrm>
        </p:grpSpPr>
        <p:sp>
          <p:nvSpPr>
            <p:cNvPr id="164" name=""/>
            <p:cNvSpPr/>
            <p:nvPr/>
          </p:nvSpPr>
          <p:spPr>
            <a:xfrm>
              <a:off x="3844800" y="526068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1200" y="51735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16520" y="4788000"/>
            <a:ext cx="374400" cy="307080"/>
            <a:chOff x="4016520" y="4788000"/>
            <a:chExt cx="374400" cy="307080"/>
          </a:xfrm>
        </p:grpSpPr>
        <p:sp>
          <p:nvSpPr>
            <p:cNvPr id="167" name=""/>
            <p:cNvSpPr/>
            <p:nvPr/>
          </p:nvSpPr>
          <p:spPr>
            <a:xfrm>
              <a:off x="4110120" y="487512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16520" y="478800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916440" y="4376880"/>
            <a:ext cx="374400" cy="307080"/>
            <a:chOff x="3916440" y="4376880"/>
            <a:chExt cx="374400" cy="307080"/>
          </a:xfrm>
        </p:grpSpPr>
        <p:sp>
          <p:nvSpPr>
            <p:cNvPr id="170" name=""/>
            <p:cNvSpPr/>
            <p:nvPr/>
          </p:nvSpPr>
          <p:spPr>
            <a:xfrm>
              <a:off x="4010040" y="446400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16440" y="43768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49520" y="4746600"/>
            <a:ext cx="374400" cy="307080"/>
            <a:chOff x="1649520" y="4746600"/>
            <a:chExt cx="374400" cy="307080"/>
          </a:xfrm>
        </p:grpSpPr>
        <p:sp>
          <p:nvSpPr>
            <p:cNvPr id="173" name=""/>
            <p:cNvSpPr/>
            <p:nvPr/>
          </p:nvSpPr>
          <p:spPr>
            <a:xfrm>
              <a:off x="1743120" y="483372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49520" y="474660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263600" y="4748040"/>
            <a:ext cx="374400" cy="307080"/>
            <a:chOff x="1263600" y="4748040"/>
            <a:chExt cx="374400" cy="307080"/>
          </a:xfrm>
        </p:grpSpPr>
        <p:sp>
          <p:nvSpPr>
            <p:cNvPr id="176" name=""/>
            <p:cNvSpPr/>
            <p:nvPr/>
          </p:nvSpPr>
          <p:spPr>
            <a:xfrm>
              <a:off x="1357200" y="483516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63600" y="474804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103480" y="4919760"/>
            <a:ext cx="1325520" cy="0"/>
          </a:xfrm>
          <a:prstGeom prst="line">
            <a:avLst/>
          </a:prstGeom>
          <a:ln w="255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143160" y="3720600"/>
            <a:ext cx="752400" cy="1078200"/>
          </a:xfrm>
          <a:prstGeom prst="line">
            <a:avLst/>
          </a:prstGeom>
          <a:ln w="255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57240" y="4124160"/>
            <a:ext cx="903240" cy="750960"/>
          </a:xfrm>
          <a:prstGeom prst="line">
            <a:avLst/>
          </a:prstGeom>
          <a:ln w="255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106440" y="5183280"/>
            <a:ext cx="563400" cy="457200"/>
          </a:xfrm>
          <a:prstGeom prst="line">
            <a:avLst/>
          </a:prstGeom>
          <a:ln w="255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482640" y="5389560"/>
            <a:ext cx="250920" cy="376200"/>
          </a:xfrm>
          <a:prstGeom prst="line">
            <a:avLst/>
          </a:prstGeom>
          <a:ln w="255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64160" y="5205240"/>
            <a:ext cx="38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Some are absorbed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87840" y="3781440"/>
            <a:ext cx="39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Some are “reflected”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BA2A-4233-406F-BAAC-064DA92FC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4:16:45Z</dcterms:created>
  <dc:creator>ak127</dc:creator>
  <dc:description/>
  <dc:language>en-US</dc:language>
  <cp:lastModifiedBy> </cp:lastModifiedBy>
  <dcterms:modified xsi:type="dcterms:W3CDTF">2009-09-02T01:33:46Z</dcterms:modified>
  <cp:revision>627</cp:revision>
  <dc:subject/>
  <dc:title>Slide 1</dc:title>
</cp:coreProperties>
</file>